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C47-769D-4C3A-841C-D5FCF57E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FAC-53E7-4CA6-A913-95B7CA4F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380-73E7-45BF-B65F-25D8818F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9D2-110C-4707-9A7E-4D941DEF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EE8-6E92-435A-AEE5-730639A8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DB9-656E-4A0E-B4CA-DBE336F9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32F-FF4D-49E3-BF29-09834ECD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BE0-7225-4864-A155-8B38EC64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8CE-39FB-45FA-A9BC-95803859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6EB-31BD-407A-8EAF-DBDD34CD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DF2-2E17-4806-A290-B120041B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942-D975-461E-88B4-C0D2F4F9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3B1E-8B93-4F95-8290-31447E825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0 D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domovin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večnej domov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dnes by ísť som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verným miesto chy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drahý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nepríde už nik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ľ, bolesť, tráp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Pánovi česť a chvál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zdám za vykúpe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 večnej domovi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často túžie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vládne láska č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Otca svoj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poznám, čo je šťast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nemá miesto hrie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smr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stane vládnu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už nik nezom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 večnej domovi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ána uvid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rdcom vďakypl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 jemu poklo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krvou svojou svä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 spásu vydob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vlasti nebeskej a krásnej mi bránu otvori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43:37Z</dcterms:modified>
  <cp:revision>22</cp:revision>
  <dc:subject/>
  <dc:title>Je veľký náš Pán, on slávy je Kráľ Nech do všetkých strán  spev vrúcnych znie chvál.</dc:title>
</cp:coreProperties>
</file>